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BE432-5A46-4BF7-B9D9-6EDABDAF47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B5C6E-CA9E-4208-A338-64D70B52C7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ADB03-CC0C-445F-99BA-03E6F58032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B6DA-E0E8-4BFF-92F3-31E035F4957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63EC-F02C-41D2-B8A7-5469262324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97F7B-4FCC-4355-B413-7B028F6D1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26ED-8DB9-4F85-B6DF-3828143E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6E20-BC0D-4C4B-87BE-09CD523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3F5E-EAEA-4A67-A7E8-9BDD7EA25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B801-BC70-49B1-B7D7-77F5E19F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5382-2596-4A1B-A73D-A1138BA5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948F-374D-4B23-AD3B-8DBC17E8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22D1-6E5C-4F42-934C-6F95F379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8686-36D3-4ED9-B576-0F8F631A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0AAB-448C-4A6C-B8C5-C8F9C668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12E7-7A17-4941-B1CC-3E392ED2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4B69-2259-4415-8681-AFAD1AE0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B9C790-88D6-41C6-BC64-43D16AE7833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TIPOS DE FRU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Agrupar 1"/>
          <p:cNvGrpSpPr/>
          <p:nvPr/>
        </p:nvGrpSpPr>
        <p:grpSpPr>
          <a:xfrm>
            <a:off x="838080" y="1600200"/>
            <a:ext cx="7772400" cy="3809880"/>
            <a:chOff x="838080" y="1600200"/>
            <a:chExt cx="7772400" cy="3809880"/>
          </a:xfrm>
        </p:grpSpPr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777240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n 2" descr=""/>
            <p:cNvPicPr/>
            <p:nvPr/>
          </p:nvPicPr>
          <p:blipFill>
            <a:blip r:embed="rId2"/>
            <a:stretch/>
          </p:blipFill>
          <p:spPr>
            <a:xfrm>
              <a:off x="2050920" y="1898640"/>
              <a:ext cx="1800000" cy="16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3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tipos de fru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6084720" y="1341360"/>
            <a:ext cx="20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tón de 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7391520" y="3232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7543800" y="54864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7391520" y="1828800"/>
            <a:ext cx="13716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971640" y="836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d0a"/>
                </a:solidFill>
                <a:latin typeface="Arial"/>
              </a:rPr>
              <a:t>Frutos se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900000" y="141300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268360" y="148428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m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924360" y="112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uela de caball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971640" y="342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d0a"/>
                </a:solidFill>
                <a:latin typeface="Arial"/>
              </a:rPr>
              <a:t>Frutos carno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826920" y="54450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556000" y="537372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4284720" y="537372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l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940360" y="54450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re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5:07Z</dcterms:modified>
  <cp:revision>47</cp:revision>
  <dc:subject/>
  <dc:title>Diapositiva 1</dc:title>
</cp:coreProperties>
</file>